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5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B6F-F8B8-4B56-9911-9AADEEC3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1DA-18A6-4686-AF97-C36E1680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DE3-AF49-409F-A0FF-F346906B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5FA-F861-4354-986B-4D5F8A51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F04-5170-4EB1-BAAC-209C5346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A99-15F4-4F26-B24B-C240B6FE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4FC-0987-487F-9BBB-4E6B58DD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7DF-E20A-448A-8C63-4E9C8BAA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CDF-3A35-43C1-801A-DC7A4C3F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5B9-08CC-4039-BD36-74921D0F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27A-A35B-45D2-9A25-A07C811C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338-1982-4122-9EA5-BF41DA7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9FC5A735-C7C4-4A40-BCAA-301E675012AE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jpe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Annual Review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ject Financial Overview: Past 12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Over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portunity to use a short period of idle MIT Haystack engineering time appeared for important upgrades to the Mk5 systems.  A subcontract was established after consultation with our Science Offic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quipment was forward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SIRO and VIRAC will claim their entire three years of spending during the first y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IRO found that their costs were higher than expected and asked to bring forward their costs in response; their internal budgeting will adjust to these costs and the shifted fu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C completed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 and SHAO seem to be overspending, but they have executed just over one-third of their three year bu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C36-9604-465B-82A6-CE390D5963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Non-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claiming zero spe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RA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ree of the five partners received less than 5,000 € for the first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pending does not mean non-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and JIVE are coordinating the installation and optimization of the next network bu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 has been working closely with CSIRO to install and deploy connectivity to their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726-6442-402C-A5C6-EF7EAB7AE1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Under-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under-spe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TE, CNIG-IGN, INAF, MPIfR, NCU, OSO, 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DANTE and NCU received less than 5,000 € for the firs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IG-IGN, MPIFR, OSO, 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partners have had delays in their network construction/installation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914-C6A8-4CCC-935C-46DC9E956C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Audited Returns in Gree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147680"/>
          <a:ext cx="6680160" cy="527220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F2A-76B1-44CC-8A7A-9072E616DA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ed Financial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 with Audited Form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K/M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eC/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opies of all audits are in the final repo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523-20D2-45E6-BD23-2FA80ECE09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omalies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143000"/>
          <a:ext cx="8076960" cy="4884840"/>
        </p:xfrm>
        <a:graphic>
          <a:graphicData uri="http://schemas.openxmlformats.org/drawingml/2006/table">
            <a:tbl>
              <a:tblPr/>
              <a:tblGrid>
                <a:gridCol w="1211040"/>
                <a:gridCol w="1420920"/>
                <a:gridCol w="1293840"/>
                <a:gridCol w="295200"/>
                <a:gridCol w="1144800"/>
                <a:gridCol w="1417320"/>
                <a:gridCol w="12938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istrib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istrib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9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79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9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79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8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2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2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8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EBB-37AE-4295-8F0F-D893FDA956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 Certific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Encouraged" audits from all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uggestion from the 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 to be a valuable suggestion as international auditing expectations required time to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artners who received smaller distributions in period 1 expressed valid resistance to the au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EC partners expressed concern regarding a non-standard audit/au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e process, most partners have been exposed to the intricacies and potential difficulties of the audi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artners exer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ffort to com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28F-BE7B-49E3-9474-EAD7205C41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on-European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artners had administrative difficulties with first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RAO and Areci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ontinental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Office continues to encourage participation in per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encourage remote participation; face to face is always more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some trave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meetings are co-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eetings try to coincide with other large gathe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F35-12B5-4A18-AAED-154688A72A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NA1, NA2, NA3, N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E39-9BFB-473A-9FBB-A8DAA1935F8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AFC-1D62-478A-9279-5CA459066F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Fin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BEA-DB4C-4DDA-B259-A4A9494FE0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27520" y="146052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9480" y="21049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23880" y="214488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66880" y="223668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836640" cy="405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4876920" y="2268360"/>
            <a:ext cx="888840" cy="28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6019920" y="226044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7802640" y="1981080"/>
            <a:ext cx="73188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685800" y="3110040"/>
            <a:ext cx="849240" cy="587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1752480" y="3193920"/>
            <a:ext cx="2246400" cy="590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>
            <a:off x="4338720" y="294624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tkk-ctv-eng" descr=""/>
          <p:cNvPicPr/>
          <p:nvPr/>
        </p:nvPicPr>
        <p:blipFill>
          <a:blip r:embed="rId12"/>
          <a:stretch/>
        </p:blipFill>
        <p:spPr>
          <a:xfrm>
            <a:off x="5257800" y="311940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3"/>
          <a:stretch/>
        </p:blipFill>
        <p:spPr>
          <a:xfrm>
            <a:off x="7767720" y="30956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4"/>
          <a:stretch/>
        </p:blipFill>
        <p:spPr>
          <a:xfrm>
            <a:off x="587520" y="416556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5"/>
          <a:stretch/>
        </p:blipFill>
        <p:spPr>
          <a:xfrm>
            <a:off x="1882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6"/>
          <a:stretch/>
        </p:blipFill>
        <p:spPr>
          <a:xfrm>
            <a:off x="3025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7"/>
          <a:stretch/>
        </p:blipFill>
        <p:spPr>
          <a:xfrm>
            <a:off x="4241880" y="423720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8"/>
          <a:stretch/>
        </p:blipFill>
        <p:spPr>
          <a:xfrm>
            <a:off x="5235480" y="439416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9"/>
          <a:stretch/>
        </p:blipFill>
        <p:spPr>
          <a:xfrm>
            <a:off x="6835680" y="4459320"/>
            <a:ext cx="1698840" cy="326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0"/>
          <a:stretch/>
        </p:blipFill>
        <p:spPr>
          <a:xfrm>
            <a:off x="4038480" y="54100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B44-C6ED-410F-A0CB-534046CE8B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u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pt of first EC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distribution to partner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% remainder to be distributed late April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ingly unbalanced distribution between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1, NA4, SA1, and JRA1 are centered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provides administrative support for  NA2, N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activity distribution is much more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all four NA's are combined for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ECE-1B9D-4BF8-8B35-C9E07E46A5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 of Funding, by Partne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95280" y="1219320"/>
          <a:ext cx="6616800" cy="48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61680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57A-E9D4-4701-956A-6F5BD8A70C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447920" y="1177920"/>
          <a:ext cx="61722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77920"/>
                    <a:ext cx="61722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 of Funding, by Activit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146-95B3-47B0-B00B-AFA50C78A5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orm A Inconsistenc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.2, Breakdown of the EC contribution per report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.3, Financial Information, 1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3.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00,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ont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572,000 €   (first tran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ont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01,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Office decided to move forward with a first distribution to participants based on the A3.3 total.  Rounding each partners' allocation to an even thousand, the 18 month figure is 1,226,208 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BD6-D1F4-4797-82C9-70D80A51A4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tail: Historical A3.2, A3.3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16080"/>
            <a:ext cx="7162920" cy="4803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187-210F-4F5B-A097-3B601CDC69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Summary (1 of 2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147680"/>
          <a:ext cx="6680160" cy="525312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762440" y="1143000"/>
            <a:ext cx="270504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01C-893C-4162-920F-3AEC74AEF2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Summary (2 of 2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147680"/>
          <a:ext cx="6680160" cy="525312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717-EB5C-4BCD-A325-F258C7769F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7-04-16T20:45:37Z</dcterms:modified>
  <cp:revision>111</cp:revision>
  <dc:subject/>
  <dc:title>Slide 1</dc:title>
</cp:coreProperties>
</file>